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B71E-1433-4C03-BD09-880C17C6E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91E9-C41C-430B-B7C7-7E21F4F6B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2177-8B1F-4D38-B0D6-342675DD3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9746-AEA7-49D6-9E71-EDFB70463D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C1AD-400F-4728-A0BE-9D53F4DD0B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AEF8-AC37-4FD7-B1BB-62641C950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49CD-13BA-4B86-9236-31E685B4A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4708-0D87-47BA-B7A4-D89BC2BC7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2B18-5C67-4B12-A835-70E4A5968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450B-5FC6-4AEC-A695-0B724C8D8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BE96-6CCC-4024-BF97-B3C01072A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FD3A-50E8-4A07-AFF0-A6CC18EAE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4C82-C7CE-4F5E-BD82-0F149167B3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ff3300"/>
                </a:solidFill>
                <a:latin typeface="Lucida Grande"/>
              </a:rPr>
              <a:t>A</a:t>
            </a:r>
            <a:r>
              <a:rPr b="1" lang="en-US" sz="12500" spc="-1" strike="noStrike">
                <a:solidFill>
                  <a:srgbClr val="0000ff"/>
                </a:solidFill>
                <a:latin typeface="Lucida Grande"/>
              </a:rPr>
              <a:t>N</a:t>
            </a:r>
            <a:r>
              <a:rPr b="1" lang="en-US" sz="12500" spc="-1" strike="noStrike">
                <a:solidFill>
                  <a:srgbClr val="339933"/>
                </a:solidFill>
                <a:latin typeface="Lucida Grande"/>
              </a:rPr>
              <a:t>G</a:t>
            </a:r>
            <a:r>
              <a:rPr b="1" lang="en-US" sz="12500" spc="-1" strike="noStrike">
                <a:solidFill>
                  <a:srgbClr val="800080"/>
                </a:solidFill>
                <a:latin typeface="Lucida Grande"/>
              </a:rPr>
              <a:t>L</a:t>
            </a:r>
            <a:r>
              <a:rPr b="1" lang="en-US" sz="12500" spc="-1" strike="noStrike">
                <a:solidFill>
                  <a:srgbClr val="ff3300"/>
                </a:solidFill>
                <a:latin typeface="Lucida Grande"/>
              </a:rPr>
              <a:t>E</a:t>
            </a:r>
            <a:r>
              <a:rPr b="1" lang="en-US" sz="12500" spc="-1" strike="noStrike">
                <a:solidFill>
                  <a:srgbClr val="0000ff"/>
                </a:solidFill>
                <a:latin typeface="Lucida Grande"/>
              </a:rPr>
              <a:t>S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Straigh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Bold"/>
                <a:ea typeface="Arial Bold"/>
              </a:rPr>
              <a:t>straight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80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361960" cy="871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38280" y="2743200"/>
            <a:ext cx="4476960" cy="309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236232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GAME TI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 algn="ctr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object of the game is to be the first to </a:t>
            </a:r>
            <a:r>
              <a:rPr b="0" lang="en-US" sz="4400" spc="-1" strike="noStrike" u="sng">
                <a:solidFill>
                  <a:srgbClr val="ff3300"/>
                </a:solidFill>
                <a:uFillTx/>
                <a:latin typeface="Arial Bold"/>
                <a:ea typeface="Arial Bold"/>
              </a:rPr>
              <a:t>raise your hand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and correctly name what type of angle you see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old"/>
                <a:ea typeface="Arial Bold"/>
              </a:rPr>
              <a:t>The correct answer will be on the following slid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old"/>
                <a:ea typeface="Arial Bold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9099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3300"/>
                </a:solidFill>
                <a:latin typeface="Arial Bold"/>
                <a:ea typeface="Arial Bold"/>
              </a:rPr>
              <a:t>Acute</a:t>
            </a:r>
            <a:br>
              <a:rPr sz="10000"/>
            </a:br>
            <a:r>
              <a:rPr b="0" lang="en-US" sz="10000" spc="-1" strike="noStrike">
                <a:solidFill>
                  <a:srgbClr val="ff3300"/>
                </a:solidFill>
                <a:latin typeface="Arial Bold"/>
                <a:ea typeface="Arial Bold"/>
              </a:rPr>
              <a:t>Ang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095880" cy="27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ff"/>
                </a:solidFill>
                <a:latin typeface="Arial Bold"/>
                <a:ea typeface="Arial Bold"/>
              </a:rPr>
              <a:t>Obtuse</a:t>
            </a:r>
            <a:br>
              <a:rPr sz="10000"/>
            </a:br>
            <a:r>
              <a:rPr b="0" lang="en-US" sz="10000" spc="-1" strike="noStrike">
                <a:solidFill>
                  <a:srgbClr val="0000ff"/>
                </a:solidFill>
                <a:latin typeface="Arial Bold"/>
                <a:ea typeface="Arial Bold"/>
              </a:rPr>
              <a:t>Ang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23864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9933"/>
                </a:solidFill>
                <a:latin typeface="Arial Bold"/>
                <a:ea typeface="Arial Bold"/>
              </a:rPr>
              <a:t>Right</a:t>
            </a:r>
            <a:br>
              <a:rPr sz="10000"/>
            </a:br>
            <a:r>
              <a:rPr b="0" lang="en-US" sz="10000" spc="-1" strike="noStrike">
                <a:solidFill>
                  <a:srgbClr val="339933"/>
                </a:solidFill>
                <a:latin typeface="Arial Bold"/>
                <a:ea typeface="Arial Bold"/>
              </a:rPr>
              <a:t>Ang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12928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800080"/>
                </a:solidFill>
                <a:latin typeface="Arial Bold"/>
                <a:ea typeface="Arial Bold"/>
              </a:rPr>
              <a:t>Straight</a:t>
            </a:r>
            <a:br>
              <a:rPr sz="10000"/>
            </a:br>
            <a:r>
              <a:rPr b="0" lang="en-US" sz="10000" spc="-1" strike="noStrike">
                <a:solidFill>
                  <a:srgbClr val="800080"/>
                </a:solidFill>
                <a:latin typeface="Arial Bold"/>
                <a:ea typeface="Arial Bold"/>
              </a:rPr>
              <a:t>Ang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You will learn to classify angles as</a:t>
            </a: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en-US" sz="5500" spc="-1" strike="noStrike">
                <a:solidFill>
                  <a:srgbClr val="ff3300"/>
                </a:solidFill>
                <a:latin typeface="Arial Bold"/>
                <a:ea typeface="Arial Bold"/>
              </a:rPr>
              <a:t>acute</a:t>
            </a: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, </a:t>
            </a:r>
            <a:r>
              <a:rPr b="0" lang="en-US" sz="5500" spc="-1" strike="noStrike">
                <a:solidFill>
                  <a:srgbClr val="0000ff"/>
                </a:solidFill>
                <a:latin typeface="Arial Bold"/>
                <a:ea typeface="Arial Bold"/>
              </a:rPr>
              <a:t>obtuse</a:t>
            </a: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, </a:t>
            </a:r>
            <a:r>
              <a:rPr b="0" lang="en-US" sz="5500" spc="-1" strike="noStrike">
                <a:solidFill>
                  <a:srgbClr val="339933"/>
                </a:solidFill>
                <a:latin typeface="Arial Bold"/>
                <a:ea typeface="Arial Bold"/>
              </a:rPr>
              <a:t>right</a:t>
            </a: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,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en-US" sz="5500" spc="-1" strike="noStrike">
                <a:solidFill>
                  <a:srgbClr val="800080"/>
                </a:solidFill>
                <a:latin typeface="Arial Bold"/>
                <a:ea typeface="Arial Bold"/>
              </a:rPr>
              <a:t>straight</a:t>
            </a: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.</a:t>
            </a:r>
            <a:br>
              <a:rPr sz="5500"/>
            </a:b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3300"/>
                </a:solidFill>
                <a:latin typeface="Arial Bold"/>
                <a:ea typeface="Arial Bold"/>
              </a:rPr>
              <a:t>GREAT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0" spc="-1" strike="noStrike">
                <a:solidFill>
                  <a:srgbClr val="0000ff"/>
                </a:solidFill>
                <a:latin typeface="Arial Bold"/>
                <a:ea typeface="Arial Bold"/>
              </a:rPr>
              <a:t>JOB!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What is an an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US" sz="3200" spc="-1" strike="noStrike" u="sng">
                <a:solidFill>
                  <a:srgbClr val="800080"/>
                </a:solidFill>
                <a:uFillTx/>
                <a:latin typeface="Arial Bold"/>
                <a:ea typeface="Arial Bold"/>
              </a:rPr>
              <a:t>r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hare the same endpoint form an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 Bold"/>
                <a:ea typeface="Arial Bold"/>
              </a:rPr>
              <a:t>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point where the rays intersect is called the </a:t>
            </a:r>
            <a:r>
              <a:rPr b="0" lang="en-US" sz="3200" spc="-1" strike="noStrike" u="sng">
                <a:solidFill>
                  <a:srgbClr val="339933"/>
                </a:solidFill>
                <a:uFillTx/>
                <a:latin typeface="Arial Bold"/>
                <a:ea typeface="Arial Bold"/>
              </a:rPr>
              <a:t>vert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angle. The two rays are called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Bold"/>
                <a:ea typeface="Arial Bold"/>
              </a:rPr>
              <a:t>s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ang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179960"/>
            <a:ext cx="746748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Here are som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of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 Bold"/>
                <a:ea typeface="Arial Bold"/>
              </a:rPr>
              <a:t>angl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69644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identify an angle by using a point on each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3200" spc="-1" strike="noStrike" u="sng">
                <a:solidFill>
                  <a:srgbClr val="339933"/>
                </a:solidFill>
                <a:uFillTx/>
                <a:latin typeface="Arial Bold"/>
                <a:ea typeface="Arial Bold"/>
              </a:rPr>
              <a:t>vert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angle below may be identified as angle ABC or as angle CBA; you may also see this written as  ABC or as  CBA. 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The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 Bold"/>
                <a:ea typeface="Arial Bold"/>
              </a:rPr>
              <a:t>vertex point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 is always in the midd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41911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Angle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easure the size of an angle using </a:t>
            </a:r>
            <a:r>
              <a:rPr b="0" lang="en-US" sz="3200" spc="-1" strike="noStrike" u="sng">
                <a:solidFill>
                  <a:srgbClr val="339933"/>
                </a:solidFill>
                <a:uFillTx/>
                <a:latin typeface="Arial Bold"/>
                <a:ea typeface="Arial Bold"/>
              </a:rPr>
              <a:t>degre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examples of </a:t>
            </a:r>
            <a:r>
              <a:rPr b="0" lang="en-US" sz="3200" spc="-1" strike="noStrike" u="sng">
                <a:solidFill>
                  <a:srgbClr val="800080"/>
                </a:solidFill>
                <a:uFillTx/>
                <a:latin typeface="Arial Bold"/>
                <a:ea typeface="Arial Bold"/>
              </a:rPr>
              <a:t>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ir degree measur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655308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Acute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 u="sng">
                <a:solidFill>
                  <a:srgbClr val="339933"/>
                </a:solidFill>
                <a:uFillTx/>
                <a:latin typeface="Arial Bold"/>
                <a:ea typeface="Arial Bold"/>
              </a:rPr>
              <a:t>acute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angle measuring between 0 and 90 degr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ngles are all acute ang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0160" y="2895480"/>
            <a:ext cx="6478560" cy="34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Obtuse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 u="sng">
                <a:solidFill>
                  <a:srgbClr val="800080"/>
                </a:solidFill>
                <a:uFillTx/>
                <a:latin typeface="Arial Bold"/>
                <a:ea typeface="Arial Bold"/>
              </a:rPr>
              <a:t>obtuse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angle measuring between 90 and 180 degr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ngles are all obt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72388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Right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 Bold"/>
                <a:ea typeface="Arial Bold"/>
              </a:rPr>
              <a:t>right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angle measuring 90 degr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ngles are both right ang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4114800" cy="260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EES.Teacher</cp:lastModifiedBy>
  <dcterms:modified xsi:type="dcterms:W3CDTF">2011-03-01T12:36:09Z</dcterms:modified>
  <cp:revision>1</cp:revision>
  <dc:subject/>
  <dc:title>ANGLES</dc:title>
</cp:coreProperties>
</file>